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zorro-short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2AA-4EB9-4AF4-89ED-8C7FE86F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7B3-A146-4364-BB50-831AAA38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37F-6910-4C9C-9A9B-159365F8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08D-DB33-40C4-AEE2-B5F56FDE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038-842D-4655-B71B-82A1D915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E3CB-9835-47DD-9BD4-011881BF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533-BEBC-485A-94E6-C8E15374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5F1-677B-405A-9B53-F263B045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3A2E-CE6C-44FC-BDB7-87B282CE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54A-D9E9-48A7-B048-6875D89D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F47-186A-4CA2-AFC6-014B3959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D3D-92E3-418B-B865-5F345204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7A3A-CD1C-4C68-9EEA-FFBD7DC16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orro-short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le Class Review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143000"/>
            <a:ext cx="693432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el of Fort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5905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zorro-sho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each student an index card with a number from 1-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are instructed to write a review question, math problem, or spelling word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he Spin Butt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wheel hits the number on the index card, the student chooses who will receive the question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066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4344000">
            <a:off x="5714640" y="182880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4:24:23Z</dcterms:created>
  <dc:creator>Connie Campbell</dc:creator>
  <dc:description/>
  <dc:language>en-US</dc:language>
  <cp:lastModifiedBy>Connie Campbell</cp:lastModifiedBy>
  <dcterms:modified xsi:type="dcterms:W3CDTF">2006-02-20T23:01:23Z</dcterms:modified>
  <cp:revision>6</cp:revision>
  <dc:subject/>
  <dc:title>Wheel of Fortune</dc:title>
</cp:coreProperties>
</file>